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A1A-F83D-4004-B4C5-C479C52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0C06-8ED4-439B-BFA3-30A97DCD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A6E-9CD7-4F5E-B6B8-9380514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8A1-D089-49AE-A9CA-3C101F6A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349-1E76-493C-A605-EA0C0EBF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D4E-979B-4B9A-AC52-5B78B99D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AF3D-CE11-449B-B474-9D4E45F5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76E-CE4B-4B94-8460-3F7812D6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9B1-B3CA-43D6-89C6-149ABC48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F02A-915C-4329-BCC6-04CBCA23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EA6-FB38-4EC5-AF02-F1083DF4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325D-077C-4FFA-9481-2D61EA7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A01A-7DE3-4E0F-B19D-9EABB9227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rchipela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1293840"/>
            <a:ext cx="6019920" cy="52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f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tol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195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dland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925040" cy="52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391160" cy="55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ea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0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ut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1281240"/>
            <a:ext cx="7010640" cy="52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ny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p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057400" y="117144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av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171440"/>
            <a:ext cx="7315200" cy="484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3:35:53Z</dcterms:created>
  <dc:creator>netadmin8</dc:creator>
  <dc:description/>
  <dc:language>en-US</dc:language>
  <cp:lastModifiedBy>netadmin8</cp:lastModifiedBy>
  <dcterms:modified xsi:type="dcterms:W3CDTF">2012-10-02T14:09:16Z</dcterms:modified>
  <cp:revision>4</cp:revision>
  <dc:subject/>
  <dc:title>Slide 1</dc:title>
</cp:coreProperties>
</file>